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207-EA85-42C1-91DA-FBED3DC4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951-2BB7-4BF9-B836-483886A0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B8C-DBAC-47D1-BCB7-193BFC2E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202-9B58-4529-94F5-C3D08942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8C6B-4C16-4001-A011-8B6708D5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0AA5-CB2E-4DA9-85DA-ADCAAA6A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E935-C238-4E67-8121-6ADE02B7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CF83-6F8F-41D8-8915-5182840D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5E21-2EC0-4D51-8107-DF62C7CA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FD3A-93C0-47B3-B8B7-77DE6D6E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15CC-D5C0-4DB0-A9F4-A827D0A8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045-23A6-499B-B306-CF5C7D85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CE5B-8606-4052-89F9-0E0D635C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9369-D1D8-4280-B68C-1DC537B3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D4A4-F471-4148-BC65-5B127A16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9B7F-5ACF-46BF-8F60-BA4A581A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1FAF-3339-457F-A2E4-0D7CABEE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C0E6-F30A-407A-8E65-EF56D2F9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6951B-D7E5-4C38-8BAC-06012D45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0F70B-0F0B-415E-9C8A-A797FDDB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D0B3A-D404-496F-9033-438F7784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9CD60-A2E7-49EB-85D1-614569BD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9E5-D3D2-4FFB-B44E-E9FDEA03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F09E9-1A9D-44BB-B5C0-6795487A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1CA36-5A19-4DFD-8BD9-74722873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75966-40AC-4AC6-B358-A339F47F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60B72-721D-4E1F-9457-F0CC697E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3B0CE-4A36-4849-9035-2088E941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A2A2-36A4-4F6C-8C4D-856D11EB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FAAC9-07FB-4778-8F38-11A9B0D8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DCD3C-647E-454A-B5B3-6966E551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D4FA6-AA59-4074-A648-2B456CF2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239F9-9FBE-4826-B7CD-2CE3B2AC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AB3-534C-455F-985D-6F8D8769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CE8AE-A2DB-47EB-8032-52940C37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6B91A-ECF2-4C6B-B173-C4252EEE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2931C-43AC-49EB-9C1A-C1BB223E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AD3C7-1000-4C50-BDB3-92616AF5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0706A-AEF5-481A-8D5C-A3BE8E73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9D6C5-199F-4851-A5D6-04C5BE91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FE6B3-37BD-4618-AF94-335997CD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C5CFF-FB55-4D7E-B6AA-846408A2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D7C3E-AD51-4D97-B575-432C6AC7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995EB-7CA6-4341-BDEE-9DD1B870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82D-A361-4FA2-8D57-8DFEAEE2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A55D9-E71A-40F5-B471-342C3010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1600D-FF39-45F9-9B10-43B38AF7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B1261-0F6E-4E9A-B09F-1F7C682D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6CDDA-876E-4422-8D3F-A0CF5849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F596D-490B-47A9-9249-A7CAC35B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4E6A2-8FFD-4440-85A9-F4A66826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1886C-EFEA-411D-A582-6E0C6B0A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7805F-FF73-4915-95D6-5B077698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AAC7F-E12C-41EC-AD59-0D7BE7C9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DE523-30D8-4B1B-9FD7-9E5310B3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309-3C61-4D6D-935E-58539311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98B27-6AE3-4069-8833-604D1708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A861C-509C-44A4-825A-8800ACEB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372E9-51D8-474F-956D-D63DB32F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EC2F5-A7B9-48AD-824E-A2819EF6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2B4A9-0926-4DC2-8300-6F6FDCD9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282F0-4102-4696-AB32-63C62BAF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FBF05-486F-4BDA-A949-0539334A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0B3A8-CC71-40B5-9EF0-67629DE7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1AB95-9011-4AEE-BE78-8728F520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4BE9C-2922-4FE8-B6D0-746E4202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C92-2838-4C03-9561-E05E12F6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DD9EF-A4CD-480F-9958-411856EC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D565B-2757-4E06-BE26-63F0C9E1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3F119-FE99-487A-B2C6-BCFFF1AA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B1537-AE22-4DAE-BC3F-334F2A7D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E9BBA-1FC4-48C3-966A-ED150152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06F67-5C20-4BA7-8A65-CD4AC927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72057-6EDE-46C1-A1C4-06DBF4BB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01D15-A1B5-4CCA-A237-75805E41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96A04-38F3-4864-A8E0-F47FD59E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873FE-DCA7-4316-B5D5-BBE19B4E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E5E-29D3-4EA3-8A22-F8948C7F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207F3-7C81-4120-848E-C2689953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CDB97-BC26-4801-9702-8AD51A3B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2F6C8-CADD-4595-ABBA-A7815BF4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3BEA7-0286-4197-92F0-7BCA7940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40674-267A-4B1D-9D75-D7DAC6CC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C8BEC-96E6-4F0D-AA6C-C080FA93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CE8F4-32D7-4176-8CAD-7DB7DBCD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6B5C7-6194-4A1C-99A3-04C50138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95D28-8B19-437D-B786-2ABDFAB3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14A6B-BF7D-4DDC-84DF-E0DAFFB2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AB8-615E-4F58-9E64-F0C7826A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0D6E8-C36E-4A3B-97FD-92E6A469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4952B-07C0-413D-87F0-1DA5D46B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9AFAA-DAE3-4867-8E93-B3CF4D8F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70D50-DD4F-4408-8DC2-1C843CDE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4C43E-AF24-40EB-A939-37940F80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3A62E-47F6-4583-AA51-6251BE1F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BC197-BA02-4D0E-A8D3-B11D99ED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4E22-8454-438A-BF9C-48FE55E660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6f3e"/>
              </a:gs>
              <a:gs pos="50000">
                <a:srgbClr val="80b984"/>
              </a:gs>
              <a:gs pos="100000">
                <a:srgbClr val="3a6f3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3cb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8820-BFC5-4663-960D-2C25139726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F2D7-2217-4CA9-86FD-EB58E86558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0862-5E4E-4C24-A781-C17713D9EB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771C-D970-4AB2-B704-D117DE5606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D919-9401-4359-B6FD-7CFBEB8E79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F3D5-77A5-416D-AC92-F2EACD72B0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2A10-143B-47C9-B976-B76B0CE956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eachersfirst.com/index.cfm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4teachers.org/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ternet4classrooms.com/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-learningforkids.org/index.html" TargetMode="External"/><Relationship Id="rId2" Type="http://schemas.openxmlformats.org/officeDocument/2006/relationships/hyperlink" Target="http://www.topmarks.co.uk/" TargetMode="External"/><Relationship Id="rId3" Type="http://schemas.openxmlformats.org/officeDocument/2006/relationships/hyperlink" Target="http://teacher.scholastic.com/activities/clf/tguidesitemap.htm" TargetMode="External"/><Relationship Id="rId4" Type="http://schemas.openxmlformats.org/officeDocument/2006/relationships/hyperlink" Target="http://abcya.com/" TargetMode="External"/><Relationship Id="rId5" Type="http://schemas.openxmlformats.org/officeDocument/2006/relationships/hyperlink" Target="http://www.bbc.co.uk/schools/games/" TargetMode="External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log.4teachers.org/" TargetMode="External"/><Relationship Id="rId2" Type="http://schemas.openxmlformats.org/officeDocument/2006/relationships/hyperlink" Target="http://freetech4teachers.com/" TargetMode="External"/><Relationship Id="rId3" Type="http://schemas.openxmlformats.org/officeDocument/2006/relationships/hyperlink" Target="http://web20classroom.blogspot.com/" TargetMode="External"/><Relationship Id="rId4" Type="http://schemas.openxmlformats.org/officeDocument/2006/relationships/hyperlink" Target="http://web20classroom.blogspot.com/" TargetMode="External"/><Relationship Id="rId5" Type="http://schemas.openxmlformats.org/officeDocument/2006/relationships/hyperlink" Target="http://larryferlazzo.edublogs.org/" TargetMode="External"/><Relationship Id="rId6" Type="http://schemas.openxmlformats.org/officeDocument/2006/relationships/hyperlink" Target="http://ilearntechnology.com/" TargetMode="External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techpower.blogspot.com/" TargetMode="External"/><Relationship Id="rId2" Type="http://schemas.openxmlformats.org/officeDocument/2006/relationships/hyperlink" Target="http://educationaltechnologyguy.blogspot.com/" TargetMode="External"/><Relationship Id="rId3" Type="http://schemas.openxmlformats.org/officeDocument/2006/relationships/hyperlink" Target="http://theinnovativeeducator.blogspot.com/" TargetMode="External"/><Relationship Id="rId4" Type="http://schemas.openxmlformats.org/officeDocument/2006/relationships/hyperlink" Target="http://educationstormfront.wordpress.com/" TargetMode="External"/><Relationship Id="rId5" Type="http://schemas.openxmlformats.org/officeDocument/2006/relationships/hyperlink" Target="http://learninglaffs.blogspot.com/" TargetMode="External"/><Relationship Id="rId6" Type="http://schemas.openxmlformats.org/officeDocument/2006/relationships/hyperlink" Target="http://supportblogging.com/Links+to+School+Bloggers" TargetMode="External"/><Relationship Id="rId7" Type="http://schemas.openxmlformats.org/officeDocument/2006/relationships/hyperlink" Target="http://thenerdyteacher.blogspot.com/" TargetMode="External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harpsav.com/blog/" TargetMode="External"/><Relationship Id="rId2" Type="http://schemas.openxmlformats.org/officeDocument/2006/relationships/hyperlink" Target="http://www.whiteboardblog.co.uk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witter4teachers.pbworks.com/Elementary-Teachers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480" y="987480"/>
            <a:ext cx="95216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62120" y="35049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76a55"/>
                </a:solidFill>
                <a:latin typeface="Lucida Sans Unicode"/>
              </a:rPr>
              <a:t>Lakeview Academ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76a55"/>
                </a:solidFill>
                <a:latin typeface="Lucida Sans Unicode"/>
              </a:rPr>
              <a:t>Summer Technology Institut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Teachersfir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2"/>
          <a:stretch/>
        </p:blipFill>
        <p:spPr>
          <a:xfrm>
            <a:off x="195120" y="225360"/>
            <a:ext cx="8498160" cy="11527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3"/>
          <a:srcRect l="19872" t="18718" r="21797" b="6666"/>
          <a:stretch/>
        </p:blipFill>
        <p:spPr>
          <a:xfrm>
            <a:off x="2362320" y="2133720"/>
            <a:ext cx="50101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4teac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3"/>
          <a:srcRect l="8333" t="17693" r="22919" b="6666"/>
          <a:stretch/>
        </p:blipFill>
        <p:spPr>
          <a:xfrm>
            <a:off x="2057400" y="1676520"/>
            <a:ext cx="5486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Internet4classroo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3"/>
          <a:srcRect l="11058" t="17948" r="12339" b="6921"/>
          <a:stretch/>
        </p:blipFill>
        <p:spPr>
          <a:xfrm>
            <a:off x="1752480" y="1981080"/>
            <a:ext cx="6172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e-learningfork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2"/>
              </a:rPr>
              <a:t>Topmar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3"/>
              </a:rPr>
              <a:t>Scholas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4"/>
              </a:rPr>
              <a:t>Abcy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5"/>
              </a:rPr>
              <a:t>bbc.u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eetech4teacher top 35 ga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d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gxe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pzles - Photos and video sha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g Huge Lab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p Ten Tools for Young Learn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llwis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ample of 3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Grade Wallwish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2" descr=""/>
          <p:cNvPicPr/>
          <p:nvPr/>
        </p:nvPicPr>
        <p:blipFill>
          <a:blip r:embed="rId1"/>
          <a:stretch/>
        </p:blipFill>
        <p:spPr>
          <a:xfrm>
            <a:off x="195120" y="176040"/>
            <a:ext cx="8498160" cy="1506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C:\Documents and Settings\Melinda.Reinhardt\Local Settings\Temporary Internet Files\Content.IE5\X058U0TE\MC900060336[1].wmf"/>
          <p:cNvPicPr/>
          <p:nvPr/>
        </p:nvPicPr>
        <p:blipFill>
          <a:blip r:embed="rId2"/>
          <a:stretch/>
        </p:blipFill>
        <p:spPr>
          <a:xfrm>
            <a:off x="4343400" y="2286000"/>
            <a:ext cx="36576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ubscribe to a Blo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C:\Documents and Settings\Melinda.Reinhardt\Local Settings\Temporary Internet Files\Content.IE5\PFLG1KZP\MC900305397[1].wmf"/>
          <p:cNvPicPr/>
          <p:nvPr/>
        </p:nvPicPr>
        <p:blipFill>
          <a:blip r:embed="rId2"/>
          <a:stretch/>
        </p:blipFill>
        <p:spPr>
          <a:xfrm>
            <a:off x="3657600" y="1905120"/>
            <a:ext cx="178272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Content Placeholder 3" descr=""/>
          <p:cNvPicPr/>
          <p:nvPr/>
        </p:nvPicPr>
        <p:blipFill>
          <a:blip r:embed="rId1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  <p:pic>
        <p:nvPicPr>
          <p:cNvPr id="378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http://blog.4teachers.org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2"/>
              </a:rPr>
              <a:t>http://freetech4teachers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3"/>
              </a:rPr>
              <a:t>http://web20classroom.blogspot.com</a:t>
            </a:r>
            <a:r>
              <a:rPr b="0" lang="en-US" sz="800" spc="-1" strike="noStrike" u="sng">
                <a:solidFill>
                  <a:srgbClr val="db5353"/>
                </a:solidFill>
                <a:uFillTx/>
                <a:latin typeface="Lucida Sans Unicode"/>
                <a:hlinkClick r:id="rId4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5"/>
              </a:rPr>
              <a:t>http://larryferlazzo.edublogs.org/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6"/>
              </a:rPr>
              <a:t>http://ilearntechnology.com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7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52280" y="1371600"/>
            <a:ext cx="883944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http://edtechpower.blogspot.com/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2"/>
              </a:rPr>
              <a:t>http://educationaltechnologyguy.blogspot.com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3"/>
              </a:rPr>
              <a:t>http://theinnovativeeducator.blogspot.com/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4"/>
              </a:rPr>
              <a:t>http://educationstormfront.wordpress.com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5"/>
              </a:rPr>
              <a:t>http://learninglaffs.blogspot.com/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Great Education Hum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6"/>
              </a:rPr>
              <a:t>Links to a ton of education blo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7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8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http://sharpsav.com/blog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2"/>
              </a:rPr>
              <a:t>http://www.whiteboardblog.co.uk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Twitter4teac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3"/>
          <a:srcRect l="0" t="17948" r="0" b="6411"/>
          <a:stretch/>
        </p:blipFill>
        <p:spPr>
          <a:xfrm>
            <a:off x="1600200" y="2023920"/>
            <a:ext cx="64008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7:09:32Z</dcterms:created>
  <dc:creator>Fac - Montgomery,Bruce</dc:creator>
  <dc:description/>
  <dc:language>en-US</dc:language>
  <cp:lastModifiedBy>Fac - Montgomery,Bruce</cp:lastModifiedBy>
  <dcterms:modified xsi:type="dcterms:W3CDTF">2010-07-25T22:25:41Z</dcterms:modified>
  <cp:revision>208</cp:revision>
  <dc:subject/>
  <dc:title>Free Online Resources for the Lower School Classroom</dc:title>
</cp:coreProperties>
</file>